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9B6-F09A-4073-BA20-3BB2C0CE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0795-381B-4D4A-AAE7-06F90334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84B-20BA-495D-9FCA-3F1F1AB0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ED3-11A7-48D7-BAC1-A7EBCA82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25ED-BA36-4F80-87B7-CD10CC0B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F698-5CA1-4DE7-B43D-A1AF668C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0668-216F-45A3-9516-EDE326D6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DE1F-F90C-4AA0-A56A-C300F5A4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0374-B60D-44DD-9518-4D8854A5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0C5A-E52A-41E2-9E0C-750976D7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E3F5-6D97-4313-89F3-556EEE9B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7D1-4641-4D19-A401-4BEF7058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95B2-1768-4BDF-9971-9DC1AB2F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F1F4-35A3-43D2-8D15-95214946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44C5-1395-4AF2-A400-6F758CC0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032A-FEB4-4662-A527-E050CDB1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71EE-B07C-48ED-866D-313E1222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1F76E-BDDF-46D9-B5EC-15A40A66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663C-96CE-4DFF-9EB7-EA802366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2AF51-5756-43C7-8988-EDDD5482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391A8-5D45-4CBC-AEEC-96E4E0D7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43427-145F-4219-AE0F-561131B7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270-EAA7-4378-ADC7-9E1FF64C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AAC40-887B-4A37-B5D2-0481151C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74FE-E31D-41FC-BA68-693C06E7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F5756-2C9B-46A6-9283-DA1040C7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902B-84CD-4A7C-A2D7-3DBA6998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65AD3-F732-44BA-8B53-A0AC6650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C1E5C-C60A-42F5-85F8-844AF0B0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066FA-924D-4E78-8243-D4267E8B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6669C-6E8C-4904-ADDF-980F7C8D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C4126-1A5B-4015-91D7-5C2B4C25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A554B-4D08-490E-A1FB-848F74DF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F18-0F66-4910-A235-CDF377F1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F683-B55E-4E52-99F9-63CB1941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C5AB5-BC6F-44A6-BCB3-8A414754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4A493-C07A-4175-8E03-71041BD7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76C52-465B-4C7E-B6FA-B293BFB1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54062-F9E4-49D8-8E98-FC5BE84B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D521F-E260-47AE-B27B-4DBAC092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5B225-9A06-4767-B338-0249A58D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58028-C864-48A9-AA1C-492D63EE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9CA08-5D77-4754-BE61-251A154D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BBC-D9D6-43ED-AC1E-48E9BD6F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FAC-19D4-4D0C-8BED-B9EDB026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8B4-F609-49AA-A7D5-7AB11518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37F-483C-4A6E-AFA6-49AA27AC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02B-B27E-4FBF-9B37-2DE1428A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37A5-EF9B-4B2A-A57D-67823E69D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0197-DAB8-4B33-8653-6874BFE9AC39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5186-266E-4DAA-9924-506345A4709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296D-A505-4CC1-8100-FACA8005C9F3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ECB9-0CB3-406D-A58B-E2AEE92D898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6 Imagen" descr="Sin título-2.png"/>
          <p:cNvPicPr/>
          <p:nvPr/>
        </p:nvPicPr>
        <p:blipFill>
          <a:blip r:embed="rId3"/>
          <a:stretch/>
        </p:blipFill>
        <p:spPr>
          <a:xfrm>
            <a:off x="276120" y="0"/>
            <a:ext cx="88678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7BDF-A836-48D4-A90F-0BFBC2A13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6 Imagen" descr="Sin título-1.png"/>
          <p:cNvPicPr/>
          <p:nvPr/>
        </p:nvPicPr>
        <p:blipFill>
          <a:blip r:embed="rId3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285840" y="4394160"/>
            <a:ext cx="618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Arial MT"/>
                <a:ea typeface="Arial Unicode MS"/>
              </a:rPr>
              <a:t>Uso y análisis de resultados de la Evaluación Externa - SA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285840" y="5425920"/>
            <a:ext cx="85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 MT"/>
                <a:ea typeface="Arial Unicode MS"/>
              </a:rPr>
              <a:t>Bogotá, 25 de noviembre de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7 Conector recto"/>
          <p:cNvSpPr/>
          <p:nvPr/>
        </p:nvSpPr>
        <p:spPr>
          <a:xfrm>
            <a:off x="357120" y="5286240"/>
            <a:ext cx="664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7 Conector recto"/>
          <p:cNvSpPr/>
          <p:nvPr/>
        </p:nvSpPr>
        <p:spPr>
          <a:xfrm>
            <a:off x="357120" y="5286240"/>
            <a:ext cx="664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285840" y="3933720"/>
            <a:ext cx="61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Arial MT"/>
                <a:ea typeface="Arial Unicode MS"/>
              </a:rPr>
              <a:t>Mónica López Cast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Arial MT"/>
                <a:ea typeface="Arial Unicode MS"/>
              </a:rPr>
              <a:t>Directora de Calidad de la Educación</a:t>
            </a:r>
            <a:r>
              <a:rPr b="0" i="1" lang="en-US" sz="2400" spc="-1" strike="noStrike">
                <a:solidFill>
                  <a:srgbClr val="0d0d0d"/>
                </a:solidFill>
                <a:latin typeface="Arial MT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Arial MT"/>
                <a:ea typeface="Arial Unicode MS"/>
              </a:rPr>
              <a:t>Preescolar, Básica y Med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2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Objetivos de la evaluación 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ear las compentecias y su desarrollo (conocimientos, habilidades y valor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Promoveer el mejoramiento de la calidad educativa en el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cionar información objetiva a todos los sectores para la toma de decisiones, desarrollo de política pública y orientación de planes de mejor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2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y análisis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la evaluación externa se esp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orcionar información sobre los descriptores de competencias de los estudiantes en las entidades territoriales certificadas, regiones, sectores y establecimientos educ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veer información sobre la calidad de la educación básica y media en cuanto al desempeño de los estudiantes en las pruebas externas 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roalimentar el ejercicio de los docentes en el desarrollo de las compet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lizar una caracterización de los principales elementos q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n el estado de desarrollo educ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entivar  a las entidades territoriales certificadas para desarrollar la cultura del mejoramiento continu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y análisis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veer la información básica para la elaboración de los planes territoriales y de apoyo de las entidades certificadas en edu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ortar información de referencia para la toma de decisiones en los diferentes sectores y niveles de la administración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over el aprovechamiento de la información generada p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inisterio de Educación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mentar la investigación en los diferentes ámbitos de la educación para contribuir al mejoramiento de su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ltivar el interés por el uso de la información educativa para la autogestión y el progreso de las entidades territor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2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os de información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Referentes de calidad: Estádares básicos de competencias, orientaciones, documentos y guías producidos por el Ministerio de Educación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Bases de datos del FTP del ICFES de SABER 5, 9, 11 y P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ías de orientación e interpretación de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licativo de resultados de pruebas ex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os de análisis: Mapas, infor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7 Conector recto"/>
          <p:cNvSpPr/>
          <p:nvPr/>
        </p:nvSpPr>
        <p:spPr>
          <a:xfrm>
            <a:off x="357120" y="5286240"/>
            <a:ext cx="664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285840" y="3933720"/>
            <a:ext cx="61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Arial MT"/>
                <a:ea typeface="Arial Unicode MS"/>
              </a:rPr>
              <a:t>Grac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3:49:45Z</dcterms:created>
  <dc:creator>EMAC</dc:creator>
  <dc:description/>
  <dc:language>en-US</dc:language>
  <cp:lastModifiedBy>Raúl Aramendi García</cp:lastModifiedBy>
  <dcterms:modified xsi:type="dcterms:W3CDTF">2010-11-25T05:13:10Z</dcterms:modified>
  <cp:revision>128</cp:revision>
  <dc:subject/>
  <dc:title>PowerPoint Presentation</dc:title>
</cp:coreProperties>
</file>